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D6F-CEE3-4B4A-95AD-7DCCFBBD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FD4-4EB4-4206-98EE-622C7269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BF6-DAD9-47BE-BF62-561558F6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64E-6F80-4577-B354-48DAA7E8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206-6561-434B-BFDD-C90F39FA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18D-E866-408B-B4E2-FA2425D3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8D9-15EE-498E-A919-FE6FA1D5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7D4F-7E6F-4A97-828B-4093A3C1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E91-C8AD-4E58-AC94-D889B895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E4A-5678-4177-A5FE-0F4B218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800-84BE-4907-B763-4B263E55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0EDE-5ACE-4023-BC20-A80383F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2CE0-F233-45A7-863D-72D49719A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i="1" lang="it-IT" sz="6000" spc="-1" strike="noStrike">
                <a:solidFill>
                  <a:srgbClr val="000000"/>
                </a:solidFill>
                <a:latin typeface="Arial"/>
              </a:rPr>
              <a:t>IO E…                       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i="1" lang="it-IT" sz="6000" spc="-1" strike="noStrike">
                <a:solidFill>
                  <a:srgbClr val="000000"/>
                </a:solidFill>
                <a:latin typeface="Arial"/>
              </a:rPr>
              <a:t>I NUMER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308000">
            <a:off x="468000" y="2276280"/>
            <a:ext cx="7410240" cy="95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 . . 1       2      3     4         5      6       7       8      9 . . .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340000" y="2708280"/>
            <a:ext cx="431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35280" y="1773360"/>
            <a:ext cx="43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Una realtà strana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11280" y="1557360"/>
            <a:ext cx="374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ntrigante e  avvincen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OPPO BELLO PER ESSERE V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20881800">
            <a:off x="611280" y="765000"/>
            <a:ext cx="396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on l’ingresso nella scuola secondari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56000" y="357336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Arial"/>
              </a:rPr>
              <a:t>il sogno si infrang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 rot="1089600">
            <a:off x="2700360" y="1484280"/>
            <a:ext cx="5689440" cy="4937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692280"/>
            <a:ext cx="3959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I numeri girano nella mia test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189000"/>
            <a:ext cx="6480360" cy="6480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1197000"/>
            <a:ext cx="216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erco una sistemazi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598200">
            <a:off x="1476360" y="907560"/>
            <a:ext cx="4824360" cy="4160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211640" y="3645000"/>
            <a:ext cx="41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provo a tenerli in ordine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83664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Arial"/>
              </a:rPr>
              <a:t>Oggi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41:04Z</dcterms:created>
  <dc:creator>Gloria</dc:creator>
  <dc:description/>
  <dc:language>en-US</dc:language>
  <cp:lastModifiedBy>Gloria</cp:lastModifiedBy>
  <dcterms:modified xsi:type="dcterms:W3CDTF">2012-03-13T19:58:16Z</dcterms:modified>
  <cp:revision>8</cp:revision>
  <dc:subject/>
  <dc:title> IO E…                            I NUMERI</dc:title>
</cp:coreProperties>
</file>